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6.pct" ContentType="image/x-pict"/>
  <Override PartName="/ppt/media/image20.jpeg" ContentType="image/jpeg"/>
  <Override PartName="/ppt/media/image5.png" ContentType="image/png"/>
  <Override PartName="/ppt/media/image32.pct" ContentType="image/x-pict"/>
  <Override PartName="/ppt/media/image13.png" ContentType="image/png"/>
  <Override PartName="/ppt/media/image9.png" ContentType="image/png"/>
  <Override PartName="/ppt/media/image38.jpeg" ContentType="image/jpeg"/>
  <Override PartName="/ppt/media/image29.gif" ContentType="image/gif"/>
  <Override PartName="/ppt/media/image40.jpeg" ContentType="image/jpeg"/>
  <Override PartName="/ppt/media/image31.gif" ContentType="image/gif"/>
  <Override PartName="/ppt/media/image37.pct" ContentType="image/x-pict"/>
  <Override PartName="/ppt/media/image36.jpeg" ContentType="image/jpeg"/>
  <Override PartName="/ppt/media/image41.jpeg" ContentType="image/jpeg"/>
  <Override PartName="/ppt/media/image45.jpeg" ContentType="image/jpeg"/>
  <Override PartName="/ppt/media/image30.gif" ContentType="image/gif"/>
  <Override PartName="/ppt/media/image39.jpeg" ContentType="image/jpeg"/>
  <Override PartName="/ppt/media/image8.png" ContentType="image/png"/>
  <Override PartName="/ppt/media/image28.gif" ContentType="image/gif"/>
  <Override PartName="/ppt/media/image43.pct" ContentType="image/x-pict"/>
  <Override PartName="/ppt/media/image46.jpeg" ContentType="image/jpeg"/>
  <Override PartName="/ppt/media/image11.png" ContentType="image/png"/>
  <Override PartName="/ppt/media/image42.jpeg" ContentType="image/jpeg"/>
  <Override PartName="/ppt/media/image19.jpeg" ContentType="image/jpeg"/>
  <Override PartName="/ppt/media/image33.pct" ContentType="image/x-pict"/>
  <Override PartName="/ppt/media/image6.png" ContentType="image/png"/>
  <Override PartName="/ppt/media/image34.pct" ContentType="image/x-pict"/>
  <Override PartName="/ppt/media/image7.png" ContentType="image/png"/>
  <Override PartName="/ppt/media/image4.pct" ContentType="image/x-pict"/>
  <Override PartName="/ppt/media/image27.pct" ContentType="image/x-pict"/>
  <Override PartName="/ppt/media/image3.png" ContentType="image/png"/>
  <Override PartName="/ppt/media/image2.png" ContentType="image/png"/>
  <Override PartName="/ppt/media/image25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44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4C36-97A2-4744-A24B-703853ECE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8473-3BEC-48DA-8C9B-53FB9186F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B32D-7A5F-47CC-A5BE-79501360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5CB7-6305-4B1D-A4E7-44D75A1A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8704-65A7-4E50-9ABF-05909AF4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437B-4F27-4E29-902C-F1C4E7D4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C8B0-A59C-45E5-A8B1-76E84BD7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C1FA-8AD8-47E0-AD40-D66F772D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A6FF-547E-48FB-8C2F-DD987339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56F9-458A-436E-A014-D190BD49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0F31-164C-4007-B09F-C639492F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D77D-B835-468B-B50A-B4D09CC2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2E9A-C735-493B-A34A-AA100E8C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59D6-BD88-4919-890E-6F358D6F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AE3C-321D-4CF5-B726-88BE813EB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ct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pct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ct"/><Relationship Id="rId3" Type="http://schemas.openxmlformats.org/officeDocument/2006/relationships/image" Target="../media/image33.pct"/><Relationship Id="rId4" Type="http://schemas.openxmlformats.org/officeDocument/2006/relationships/image" Target="../media/image34.pct"/><Relationship Id="rId5" Type="http://schemas.openxmlformats.org/officeDocument/2006/relationships/image" Target="../media/image34.pct"/><Relationship Id="rId6" Type="http://schemas.openxmlformats.org/officeDocument/2006/relationships/image" Target="../media/image34.pct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27.pct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ct"/><Relationship Id="rId3" Type="http://schemas.openxmlformats.org/officeDocument/2006/relationships/image" Target="../media/image27.pct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ct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ct"/><Relationship Id="rId3" Type="http://schemas.openxmlformats.org/officeDocument/2006/relationships/image" Target="../media/image34.pct"/><Relationship Id="rId4" Type="http://schemas.openxmlformats.org/officeDocument/2006/relationships/image" Target="../media/image44.pct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95280" y="6858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versità del Tempo Libe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4724280"/>
            <a:ext cx="609624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efano Cov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AF / Osservatorio Astronomico di Br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6248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mercate, marzo-aprile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638680" y="1828800"/>
            <a:ext cx="2851200" cy="3576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143000" y="1905120"/>
            <a:ext cx="3370320" cy="23749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2286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asce quindi un problema interpretativo: la velocità della luce non sembra “comporsi” con le altre velocità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2666880"/>
            <a:ext cx="373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r capire perché sia un problema dobbiamo fare un passo indietro a Galileo Galilei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219320" y="1523880"/>
            <a:ext cx="3085920" cy="3733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523880" y="533412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1564 - 16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228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La relatività Galileian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190512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e velocità si compongono vettorialmente. Come in autostrada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43000" y="1295280"/>
            <a:ext cx="3403440" cy="5106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715000" y="3352680"/>
            <a:ext cx="2065320" cy="27432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rcRect l="890747" t="168121" r="950178" b="252181"/>
          <a:stretch/>
        </p:blipFill>
        <p:spPr>
          <a:xfrm>
            <a:off x="890640" y="1371600"/>
            <a:ext cx="3995640" cy="5203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28600" y="228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la velocità della luce, circa 300000 km/s, questo non accad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05520" y="2666880"/>
            <a:ext cx="3733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instein ipotizzo che non fosse appunto una peculiarità della luce, ma una proprietà fondamentale di tutti i corpi in movi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57800" y="48769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Nasce la teoria della relatività ristret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3808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questo punto le cose si complicano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1600200"/>
            <a:ext cx="5410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 le velocità comparabili a quella della luce non si compongono secondo le regole della relatività Galileiana si hanno una serie di fenomeni estremamente “esotici”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4343400"/>
            <a:ext cx="7848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tempo e lo spazio diventano interconnes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tempo non è più “assoluto” nell’univer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ascono una serie di paradossi molto interessan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, per la verità, ampiamente confermati sperimentalment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rcRect l="831317" t="168121" r="914591" b="252181"/>
          <a:stretch/>
        </p:blipFill>
        <p:spPr>
          <a:xfrm>
            <a:off x="533520" y="993600"/>
            <a:ext cx="2592360" cy="31975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90720" y="2133720"/>
            <a:ext cx="4171680" cy="3740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133720" y="990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eri e falsi paradossi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23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943600" y="2514600"/>
            <a:ext cx="2278080" cy="31240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rcRect l="1009490" t="184899" r="1152076" b="252181"/>
          <a:stretch/>
        </p:blipFill>
        <p:spPr>
          <a:xfrm>
            <a:off x="380880" y="2133720"/>
            <a:ext cx="2001960" cy="3200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819520" y="2133720"/>
            <a:ext cx="6072120" cy="3198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523880" y="60948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a simultaneità degli eventi è… relativ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3808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a forma degli oggetti in moto è anche relativ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2286000" cy="5234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429000" y="1447920"/>
            <a:ext cx="487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Gli oggetti si contraggono verso la direzione del mo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25909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ffermazione che non ha mancato di incuriosire artisti come Dalì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Macintosh HD:Users:covino:Desktop:Agrate:car.mov" descr=""/>
          <p:cNvPicPr/>
          <p:nvPr/>
        </p:nvPicPr>
        <p:blipFill>
          <a:blip r:embed="rId3"/>
          <a:stretch/>
        </p:blipFill>
        <p:spPr>
          <a:xfrm>
            <a:off x="4952880" y="4267080"/>
            <a:ext cx="2819520" cy="21146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83" dur="indefinite" restart="never" nodeType="tmRoot">
          <p:childTnLst>
            <p:seq>
              <p:cTn id="284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8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3370320" cy="1361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62120" y="1981080"/>
            <a:ext cx="3370320" cy="1362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62120" y="3505320"/>
            <a:ext cx="3370320" cy="1361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762120" y="5029200"/>
            <a:ext cx="3370320" cy="1362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648320" y="9144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0% della velocità della l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22860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86,5% della velocità della l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38862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99% della velocità della l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54100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99,9% della velocità della l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257800" y="4267080"/>
            <a:ext cx="1038240" cy="190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705720" y="4343400"/>
            <a:ext cx="1803240" cy="1744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5486400" y="2133720"/>
            <a:ext cx="600120" cy="7617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553080" y="60609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an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0320" y="3505320"/>
            <a:ext cx="29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iamo due gemell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41911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o in un astronave ed uno a ter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4800600"/>
            <a:ext cx="494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’astronave viaggia al 99.9% della velocità della luce per 100 anni vista dalla Ter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571500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tempo sarà trascorso in maniera different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89680" y="2743200"/>
            <a:ext cx="153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an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3808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l paradosso dei gemel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5486400" y="4952880"/>
            <a:ext cx="600120" cy="762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7162920" y="4952880"/>
            <a:ext cx="600120" cy="762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533520" y="1143000"/>
            <a:ext cx="3429000" cy="21668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rcRect l="950178" t="168121" r="1092645" b="235235"/>
          <a:stretch/>
        </p:blipFill>
        <p:spPr>
          <a:xfrm>
            <a:off x="380880" y="380880"/>
            <a:ext cx="3984840" cy="59295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648320" y="1066680"/>
            <a:ext cx="41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teoria della relatività speciale fu senza dubbio una grande rivoluzione concettual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3429000"/>
            <a:ext cx="41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a nulla in confronto con la teoria della relatività genera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1523880"/>
            <a:ext cx="7619760" cy="19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Albert Einstein e la fisica mode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ome le ricerche di base, astratte, pure speculazioni, a distanza di qualche decennio sono ora parte della produzione industrial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7200" y="380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utto nasce dall’osservazione di un ascensore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390840" cy="3784320"/>
          </a:xfrm>
          <a:prstGeom prst="rect">
            <a:avLst/>
          </a:prstGeom>
          <a:ln w="0">
            <a:noFill/>
          </a:ln>
        </p:spPr>
      </p:pic>
      <p:pic>
        <p:nvPicPr>
          <p:cNvPr id="138" name="Macintosh HD:Users:covino:Desktop:Agrate:elevator.mov" descr=""/>
          <p:cNvPicPr/>
          <p:nvPr/>
        </p:nvPicPr>
        <p:blipFill>
          <a:blip r:embed="rId3"/>
          <a:stretch/>
        </p:blipFill>
        <p:spPr>
          <a:xfrm>
            <a:off x="914400" y="266688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358" dur="indefinite" restart="never" nodeType="tmRoot">
          <p:childTnLst>
            <p:seq>
              <p:cTn id="359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3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rcRect l="950178" t="184899" r="1128351" b="302517"/>
          <a:stretch/>
        </p:blipFill>
        <p:spPr>
          <a:xfrm>
            <a:off x="457200" y="838080"/>
            <a:ext cx="3890880" cy="5770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724280" y="144792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instein quindi arrivò a formulare una teoria generale che descrive i fenomeni gravitazionali come dovuti alla “curvatura” dello spazio-temp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Macintosh HD:Users:covino:Desktop:Agrate:spactime.mov" descr=""/>
          <p:cNvPicPr/>
          <p:nvPr/>
        </p:nvPicPr>
        <p:blipFill>
          <a:blip r:embed="rId3"/>
          <a:stretch/>
        </p:blipFill>
        <p:spPr>
          <a:xfrm>
            <a:off x="5105520" y="373392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364" dur="indefinite" restart="never" nodeType="tmRoot">
          <p:childTnLst>
            <p:seq>
              <p:cTn id="365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9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3808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teoria della relatività generale è oggi alla base della descrizione dell’universo e della dinamica di vari fenomeni come i buchi neri, le stelle di neutroni, ec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Macintosh HD:Users:covino:Desktop:Agrate:ToEdgeEinstein.mov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404040" y="1523880"/>
            <a:ext cx="2227320" cy="2819520"/>
          </a:xfrm>
          <a:prstGeom prst="rect">
            <a:avLst/>
          </a:prstGeom>
          <a:ln w="15840">
            <a:solidFill>
              <a:srgbClr val="ce15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457200" y="4572000"/>
            <a:ext cx="3733920" cy="1806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4419720" y="4572000"/>
            <a:ext cx="4483080" cy="17924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370" dur="indefinite" restart="never" nodeType="tmRoot">
          <p:childTnLst>
            <p:seq>
              <p:cTn id="371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5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838080" y="2514600"/>
            <a:ext cx="7607520" cy="36590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90720" y="914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e lenti gravitazionali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486400" y="304920"/>
            <a:ext cx="1314360" cy="17906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Verdana"/>
              </a:rPr>
              <a:t>E=mc</a:t>
            </a:r>
            <a:r>
              <a:rPr b="1" i="1" lang="en-US" sz="4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Questa equazione è probabilmente la più nota al grande pubblic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gnifica che massa ed energia sono equivalenti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962520" y="2209680"/>
            <a:ext cx="3809880" cy="3776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7238880" y="5410080"/>
            <a:ext cx="900360" cy="1143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7924680" y="2133720"/>
            <a:ext cx="963720" cy="1422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228600" y="384804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7621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on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relatività di Einstein”, di Tullio Reg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vide Veneziano, Liceo Scientifico Fermi, Arona (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Home page di Leiwen 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ultimedia Physics 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657600" y="4267080"/>
            <a:ext cx="1343160" cy="18385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686800" cy="25365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Verdana"/>
              </a:rPr>
              <a:t>Albert Einstein, in breve…</a:t>
            </a:r>
            <a:endParaRPr b="0" lang="en-US" sz="3200" spc="-1" strike="noStrike">
              <a:solidFill>
                <a:srgbClr val="3333cc"/>
              </a:solidFill>
              <a:latin typeface="Verdan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00000" y="2057400"/>
            <a:ext cx="338148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4832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2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asce il 14 Marzo 1879 a Ulm, Württemberg, Germa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glio di un piccolo industriale, segue studi regolari in Germania fino a circa 15 ann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Quindi la famiglia si traferisce in Italia ed il giovane Einstein viene mandato in Svizzer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 diploma nel 1900, e quindi diviene cittadino svizze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vora all’ufficio federale dei brevetti di Bern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 sposa nel 1902 con Mileva Maritsch, dalla quale ebbe due figl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Verdana"/>
              </a:rPr>
              <a:t>Albert Einstein, in breve…</a:t>
            </a:r>
            <a:endParaRPr b="0" lang="en-US" sz="3200" spc="-1" strike="noStrike">
              <a:solidFill>
                <a:srgbClr val="3333cc"/>
              </a:solidFill>
              <a:latin typeface="Verdan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00000" y="2057400"/>
            <a:ext cx="3381480" cy="4114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4832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l 1905, pubblica alcuni lavori fondamentali sulla teoria quantistica dell’effetto fotolettrico e sulla teoria della relatività ristr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2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tiene anche un’incarico all’Università di Zurig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2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ra il 1905 ed il 1907 pubblica anche studi sui moti browniani e sulla la teoria quantistica del calore specific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2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l 1910 si trasferisce a Praga e nel 1912 torna sempre a Zurig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2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 separa da Mileva nel 1914 quando si traferisce a Berli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2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erlino rimane circa vent’anni e sposa la cugina Els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77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77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Verdana"/>
              </a:rPr>
              <a:t>Albert Einstein, in breve…</a:t>
            </a:r>
            <a:endParaRPr b="0" lang="en-US" sz="3200" spc="-1" strike="noStrike">
              <a:solidFill>
                <a:srgbClr val="3333cc"/>
              </a:solidFill>
              <a:latin typeface="Verdan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14400" y="1752480"/>
            <a:ext cx="3381480" cy="4114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64832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ct val="12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l 1911 predice la deflessione dei raggi di luce nel passaggio vicino al So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12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l 1915 interpreta correttamente alcune irregolarità nel moto di Mercuri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12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ubblica nel 1916 la teoria della relatività genera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12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ince nel 1921 il premio Nobel per i suoi studi dell’effetto fotoelettric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12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causa delle persecuzioni razziali naziste lasciò la Germania nel 1932 andando prima in Belgio e poi negli Stati Unit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12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l 1940 assunse la cittadinanza american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12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ore il 18 Aprile 1955 a Princeton, New Jersey, U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4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505320" y="3276720"/>
            <a:ext cx="1209600" cy="1752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28600" y="1905120"/>
            <a:ext cx="1447920" cy="1135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828800" y="1981080"/>
            <a:ext cx="137160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2133720" y="5410080"/>
            <a:ext cx="106992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228600" y="5446800"/>
            <a:ext cx="1600200" cy="1209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304920" y="3200400"/>
            <a:ext cx="1360440" cy="1981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1905120" y="3276720"/>
            <a:ext cx="1322280" cy="1981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3505320" y="5105520"/>
            <a:ext cx="129672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3352680" y="1981080"/>
          <a:ext cx="1447920" cy="1113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352680" y="1981080"/>
                    <a:ext cx="1447920" cy="11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Qualche immagine della famiglia Einstein…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5105520" y="2514600"/>
            <a:ext cx="3093840" cy="37339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rcRect l="867023" t="184899" r="902610" b="252181"/>
          <a:stretch/>
        </p:blipFill>
        <p:spPr>
          <a:xfrm>
            <a:off x="990720" y="1295280"/>
            <a:ext cx="4217760" cy="5240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33520" y="2286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dubbiamente però Einstein deve la sua grande fama ai lavori sulla cosiddett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eoria della Relatività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10080" y="28195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roviamo a capire di cosa si tratta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" y="2286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utto nasce da un famoso esperimento di fisica, l’esperimento di Michelson-Morle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666880" y="1219320"/>
            <a:ext cx="6107400" cy="3816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743200" y="2209680"/>
            <a:ext cx="5878440" cy="4408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228600" y="4800600"/>
            <a:ext cx="2232000" cy="1863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190512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o scopo era di identificare il movimento della Terra rispetto all’etere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6T07:48:57Z</dcterms:created>
  <dc:creator>Stefano Covino</dc:creator>
  <dc:description/>
  <dc:language>en-US</dc:language>
  <cp:lastModifiedBy>Stefano Covino</cp:lastModifiedBy>
  <dcterms:modified xsi:type="dcterms:W3CDTF">2006-03-20T10:03:02Z</dcterms:modified>
  <cp:revision>204</cp:revision>
  <dc:subject/>
  <dc:title>Albert Einstein, la fisica moderna e la ricerca scientif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physics.nus.edu.sg/~phyteoe/</vt:lpwstr>
  </property>
  <property fmtid="{D5CDD505-2E9C-101B-9397-08002B2CF9AE}" pid="9" name="LinkColor">
    <vt:r8>16711782</vt:r8>
  </property>
  <property fmtid="{D5CDD505-2E9C-101B-9397-08002B2CF9AE}" pid="10" name="MailAddress">
    <vt:lpwstr>phyteoe@leonis.nus.edu.sg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