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27.png" ContentType="image/png"/>
  <Override PartName="/ppt/media/image23.jpeg" ContentType="image/jpeg"/>
  <Override PartName="/ppt/media/image19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1" marL="3420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2" marL="6840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3" marL="10260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4" marL="13716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5" marL="13716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6" marL="13716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52200" y="406080"/>
            <a:ext cx="11099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6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1" marL="19656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2" marL="39312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3" marL="58968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4" marL="78624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5" marL="78624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6" marL="78624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itescienza.blogspot.it" TargetMode="Externa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2440" y="5562720"/>
            <a:ext cx="1046340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700" spc="-1" strike="noStrike">
                <a:solidFill>
                  <a:srgbClr val="ffffff"/>
                </a:solidFill>
                <a:latin typeface="Helvetica Light"/>
              </a:rPr>
              <a:t>Cosa alimenta le stelle?</a:t>
            </a:r>
            <a:endParaRPr b="0" lang="en-US" sz="77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77" name="pasted-image.pdf" descr=""/>
          <p:cNvPicPr/>
          <p:nvPr/>
        </p:nvPicPr>
        <p:blipFill>
          <a:blip r:embed="rId2"/>
          <a:stretch/>
        </p:blipFill>
        <p:spPr>
          <a:xfrm>
            <a:off x="1035000" y="7893000"/>
            <a:ext cx="1206720" cy="1206720"/>
          </a:xfrm>
          <a:prstGeom prst="rect">
            <a:avLst/>
          </a:prstGeom>
          <a:ln w="0">
            <a:noFill/>
          </a:ln>
        </p:spPr>
      </p:pic>
      <p:pic>
        <p:nvPicPr>
          <p:cNvPr id="78" name="pasted-image.pdf" descr=""/>
          <p:cNvPicPr/>
          <p:nvPr/>
        </p:nvPicPr>
        <p:blipFill>
          <a:blip r:embed="rId3"/>
          <a:stretch/>
        </p:blipFill>
        <p:spPr>
          <a:xfrm>
            <a:off x="2508120" y="8166240"/>
            <a:ext cx="1587600" cy="965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18080" y="7899480"/>
            <a:ext cx="7831080" cy="1117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300" spc="-1" strike="noStrike">
                <a:solidFill>
                  <a:srgbClr val="ffffff"/>
                </a:solidFill>
                <a:latin typeface="Helvetica Light"/>
              </a:rPr>
              <a:t>Stefano Covino</a:t>
            </a:r>
            <a:endParaRPr b="0" lang="en-US" sz="3300" spc="-1" strike="noStrike">
              <a:solidFill>
                <a:srgbClr val="ffffff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300" spc="-1" strike="noStrike">
                <a:solidFill>
                  <a:srgbClr val="ffffff"/>
                </a:solidFill>
                <a:latin typeface="Helvetica Light"/>
              </a:rPr>
              <a:t>INAF / Osservatorio Astronomico di Brera</a:t>
            </a:r>
            <a:endParaRPr b="0" lang="en-US" sz="33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80" name="pasted-image.tif" descr=""/>
          <p:cNvPicPr/>
          <p:nvPr/>
        </p:nvPicPr>
        <p:blipFill>
          <a:blip r:embed="rId4"/>
          <a:stretch/>
        </p:blipFill>
        <p:spPr>
          <a:xfrm>
            <a:off x="3965400" y="752400"/>
            <a:ext cx="6013800" cy="42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2560" y="393480"/>
            <a:ext cx="11098080" cy="21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Dopo l’idrogeno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7160" y="2502000"/>
            <a:ext cx="565956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33360" indent="-333360" algn="just">
              <a:spcBef>
                <a:spcPts val="2999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Helvetica Light"/>
              </a:rPr>
              <a:t>Una stelle, essenzialmente, è una macchina in equilibrio fra gravità e generazione di energia.</a:t>
            </a:r>
            <a:endParaRPr b="0" lang="en-US" sz="2700" spc="-1" strike="noStrike">
              <a:solidFill>
                <a:srgbClr val="ffffff"/>
              </a:solidFill>
              <a:latin typeface="Helvetica Light"/>
            </a:endParaRPr>
          </a:p>
          <a:p>
            <a:pPr marL="333360" indent="-333360" algn="just">
              <a:spcBef>
                <a:spcPts val="2999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Helvetica Light"/>
              </a:rPr>
              <a:t>Al ridursi della generazione di energia una stelle tende a contrarsi e liberare energia gravitazionale. La temperatura aumenta!</a:t>
            </a:r>
            <a:endParaRPr b="0" lang="en-US" sz="2700" spc="-1" strike="noStrike">
              <a:solidFill>
                <a:srgbClr val="ffffff"/>
              </a:solidFill>
              <a:latin typeface="Helvetica Light"/>
            </a:endParaRPr>
          </a:p>
          <a:p>
            <a:pPr marL="333360" indent="-333360" algn="just">
              <a:spcBef>
                <a:spcPts val="2999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Helvetica Light"/>
              </a:rPr>
              <a:t>A seconde della massa della stella, e da altri fattori secondari, può innescarsi la fusione dell’elio.</a:t>
            </a:r>
            <a:endParaRPr b="0" lang="en-US" sz="27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117" name="pasted-image.tif" descr=""/>
          <p:cNvPicPr/>
          <p:nvPr/>
        </p:nvPicPr>
        <p:blipFill>
          <a:blip r:embed="rId2"/>
          <a:stretch/>
        </p:blipFill>
        <p:spPr>
          <a:xfrm>
            <a:off x="6164280" y="3216240"/>
            <a:ext cx="6599160" cy="4930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727600" y="2743200"/>
            <a:ext cx="7155000" cy="643716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560" y="406080"/>
            <a:ext cx="11098080" cy="21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Il processo “tre-Alfa”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1200" y="3073320"/>
            <a:ext cx="528336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3000"/>
          </a:bodyPr>
          <a:p>
            <a:pPr marL="393840" indent="-393840" algn="just">
              <a:spcBef>
                <a:spcPts val="3900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elvetica Light"/>
              </a:rPr>
              <a:t>A temperature superiori ai 100 milioni di gradi l’elio può fondersi producendo carbonio</a:t>
            </a:r>
            <a:endParaRPr b="0" lang="en-US" sz="35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121" name="pasted-image.pdf" descr=""/>
          <p:cNvPicPr/>
          <p:nvPr/>
        </p:nvPicPr>
        <p:blipFill>
          <a:blip r:embed="rId2"/>
          <a:stretch/>
        </p:blipFill>
        <p:spPr>
          <a:xfrm>
            <a:off x="5487840" y="3478320"/>
            <a:ext cx="7659720" cy="5089320"/>
          </a:xfrm>
          <a:prstGeom prst="rect">
            <a:avLst/>
          </a:prstGeom>
          <a:ln w="0">
            <a:noFill/>
          </a:ln>
        </p:spPr>
      </p:pic>
      <p:pic>
        <p:nvPicPr>
          <p:cNvPr id="122" name="pasted-image.tif" descr=""/>
          <p:cNvPicPr/>
          <p:nvPr/>
        </p:nvPicPr>
        <p:blipFill>
          <a:blip r:embed="rId3"/>
          <a:stretch/>
        </p:blipFill>
        <p:spPr>
          <a:xfrm>
            <a:off x="647640" y="6473880"/>
            <a:ext cx="2338560" cy="2340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384720" y="7186680"/>
            <a:ext cx="1469880" cy="685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elvetica Light"/>
              </a:rPr>
              <a:t>Fred Hoyle</a:t>
            </a:r>
            <a:endParaRPr b="0" lang="en-US" sz="1900" spc="-1" strike="noStrike">
              <a:solidFill>
                <a:srgbClr val="ffffff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elvetica Light"/>
              </a:rPr>
              <a:t>1915 - 2001 </a:t>
            </a:r>
            <a:endParaRPr b="0" lang="en-US" sz="19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52560" y="406080"/>
            <a:ext cx="11098080" cy="21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Helvetica Light"/>
              </a:rPr>
              <a:t>N, O, Mg, Si, Z, Ar, Ca, Ti, Cr, Fe…</a:t>
            </a:r>
            <a:endParaRPr b="0" lang="en-US" sz="54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65160" y="2590920"/>
            <a:ext cx="1109808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marL="419400" indent="-419400" algn="just">
              <a:spcBef>
                <a:spcPts val="3900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elvetica Light"/>
              </a:rPr>
              <a:t>Attraverso continue interazioni con altri nuclei di elio, a temperature sempre crescenti, abbiamo la formazione di pressoché tutti gli elementi fino al ferro.</a:t>
            </a:r>
            <a:endParaRPr b="0" lang="en-US" sz="3500" spc="-1" strike="noStrike">
              <a:solidFill>
                <a:srgbClr val="ffffff"/>
              </a:solidFill>
              <a:latin typeface="Helvetica Light"/>
            </a:endParaRPr>
          </a:p>
          <a:p>
            <a:pPr marL="419400" indent="-419400" algn="just">
              <a:spcBef>
                <a:spcPts val="3900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elvetica Light"/>
              </a:rPr>
              <a:t>Oltre il ferro non è più possibile produrre elementi tramite fusione in quanto la stessa richiederebbe più energia di quella che sarebbe in grado di produrre.</a:t>
            </a:r>
            <a:endParaRPr b="0" lang="en-US" sz="3500" spc="-1" strike="noStrike">
              <a:solidFill>
                <a:srgbClr val="ffffff"/>
              </a:solidFill>
              <a:latin typeface="Helvetica Light"/>
            </a:endParaRPr>
          </a:p>
          <a:p>
            <a:pPr marL="419400" indent="-419400" algn="just">
              <a:spcBef>
                <a:spcPts val="3900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elvetica Light"/>
              </a:rPr>
              <a:t>Tipiche temperature: C 500 milioni di gradi, Ne 1,2 miliardi, O 1,5 miliardi, Si 3 miliardi di gradi, ecc.</a:t>
            </a:r>
            <a:endParaRPr b="0" lang="en-US" sz="35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22440" y="343080"/>
            <a:ext cx="11098080" cy="22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57200" indent="-457200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In pratica le stelle evolute assumono una struttura a cipolla: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127" name="pasted-image.tif" descr=""/>
          <p:cNvPicPr/>
          <p:nvPr/>
        </p:nvPicPr>
        <p:blipFill>
          <a:blip r:embed="rId2"/>
          <a:stretch/>
        </p:blipFill>
        <p:spPr>
          <a:xfrm>
            <a:off x="431640" y="3673440"/>
            <a:ext cx="6828120" cy="5311800"/>
          </a:xfrm>
          <a:prstGeom prst="rect">
            <a:avLst/>
          </a:prstGeom>
          <a:ln w="0">
            <a:noFill/>
          </a:ln>
        </p:spPr>
      </p:pic>
      <p:pic>
        <p:nvPicPr>
          <p:cNvPr id="128" name="pasted-image.tif" descr=""/>
          <p:cNvPicPr/>
          <p:nvPr/>
        </p:nvPicPr>
        <p:blipFill>
          <a:blip r:embed="rId3"/>
          <a:srcRect l="0" t="0" r="0" b="1216"/>
          <a:stretch/>
        </p:blipFill>
        <p:spPr>
          <a:xfrm>
            <a:off x="7372440" y="3000240"/>
            <a:ext cx="5289480" cy="6369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560" y="406080"/>
            <a:ext cx="11098080" cy="21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E gli altri elementi?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560" y="2590920"/>
            <a:ext cx="1109808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42800" indent="-442800" algn="just">
              <a:spcBef>
                <a:spcPts val="4000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La fusione nucleare è il motore che sostiene le stelle, tuttavia esistono una grande varietà di possibili catene.</a:t>
            </a:r>
            <a:endParaRPr b="0" lang="en-US" sz="3600" spc="-1" strike="noStrike">
              <a:solidFill>
                <a:srgbClr val="ffffff"/>
              </a:solidFill>
              <a:latin typeface="Helvetica Light"/>
            </a:endParaRPr>
          </a:p>
          <a:p>
            <a:pPr marL="442800" indent="-442800" algn="just">
              <a:spcBef>
                <a:spcPts val="4000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Abbiamo citato qui solo quelle energicamente più importanti.</a:t>
            </a:r>
            <a:endParaRPr b="0" lang="en-US" sz="3600" spc="-1" strike="noStrike">
              <a:solidFill>
                <a:srgbClr val="ffffff"/>
              </a:solidFill>
              <a:latin typeface="Helvetica Light"/>
            </a:endParaRPr>
          </a:p>
          <a:p>
            <a:pPr marL="442800" indent="-442800" algn="just">
              <a:spcBef>
                <a:spcPts val="4000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Anche se non sostengono le strutture stellari ci sono altre catene di reazioni molto importanti per la produzione degli elementi: i processi “S” e processi “R”.</a:t>
            </a:r>
            <a:endParaRPr b="0" lang="en-US" sz="36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560" y="406080"/>
            <a:ext cx="11098080" cy="21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I processi “S” ed “R”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39960" y="2590920"/>
            <a:ext cx="1109808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42800" indent="-442800" algn="just">
              <a:spcBef>
                <a:spcPts val="4000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S” sta per “slow”, ed avvengono in stelle evolute come le giganti asintotiche. “R” sta per “rapid” ed avvengono durante le esplosioni di supernove. </a:t>
            </a:r>
            <a:endParaRPr b="0" lang="en-US" sz="3600" spc="-1" strike="noStrike">
              <a:solidFill>
                <a:srgbClr val="ffffff"/>
              </a:solidFill>
              <a:latin typeface="Helvetica Light"/>
            </a:endParaRPr>
          </a:p>
          <a:p>
            <a:pPr marL="442800" indent="-442800" algn="just">
              <a:spcBef>
                <a:spcPts val="4000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Molte reazioni producono un flusso di neutroni, i quali possono interagire con vari nuclei producendone di nuovi.</a:t>
            </a:r>
            <a:endParaRPr b="0" lang="en-US" sz="3600" spc="-1" strike="noStrike">
              <a:solidFill>
                <a:srgbClr val="ffffff"/>
              </a:solidFill>
              <a:latin typeface="Helvetica Light"/>
            </a:endParaRPr>
          </a:p>
          <a:p>
            <a:pPr marL="442800" indent="-442800" algn="just">
              <a:spcBef>
                <a:spcPts val="4000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Assimilando neutroni e decadendo ogni qualvolta il nucleo prodotto è instabile abbiamo la formazione di tutti gli elementi conosciuti.</a:t>
            </a:r>
            <a:endParaRPr b="0" lang="en-US" sz="36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54000" y="2776680"/>
            <a:ext cx="10979280" cy="6271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65160" y="380520"/>
            <a:ext cx="11098080" cy="21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lvetica Light"/>
              </a:rPr>
              <a:t>Ad esempio a partire dall’Ag (processo “S”) </a:t>
            </a:r>
            <a:endParaRPr b="0" lang="en-US" sz="44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135" name="pasted-image.tif" descr=""/>
          <p:cNvPicPr/>
          <p:nvPr/>
        </p:nvPicPr>
        <p:blipFill>
          <a:blip r:embed="rId2"/>
          <a:stretch/>
        </p:blipFill>
        <p:spPr>
          <a:xfrm>
            <a:off x="1287360" y="3416400"/>
            <a:ext cx="9990360" cy="4587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52560" y="406080"/>
            <a:ext cx="11098080" cy="21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7300" spc="-1" strike="noStrike">
                <a:solidFill>
                  <a:srgbClr val="ffffff"/>
                </a:solidFill>
                <a:latin typeface="Helvetica Light"/>
              </a:rPr>
              <a:t>Le abbondanze cosmiche</a:t>
            </a:r>
            <a:endParaRPr b="0" lang="en-US" sz="73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2945880"/>
            <a:ext cx="3984480" cy="53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4760" indent="-374760" algn="just">
              <a:spcBef>
                <a:spcPts val="3399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Light"/>
              </a:rPr>
              <a:t>La linea verde sono gli elementi che si formano durante il big-bang, la linea blu quelli in stelle di tipo solare, e la linea rossa in stelle di più grande massa. Oltre sono necessari processi differenti.</a:t>
            </a:r>
            <a:endParaRPr b="0" lang="en-US" sz="31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138" name="pasted-image.tif" descr=""/>
          <p:cNvPicPr/>
          <p:nvPr/>
        </p:nvPicPr>
        <p:blipFill>
          <a:blip r:embed="rId2"/>
          <a:stretch/>
        </p:blipFill>
        <p:spPr>
          <a:xfrm>
            <a:off x="4519440" y="3000240"/>
            <a:ext cx="8269560" cy="5453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560" y="406080"/>
            <a:ext cx="11098080" cy="21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Siamo figli delle stelle…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140" name="pasted-image.tif" descr=""/>
          <p:cNvPicPr/>
          <p:nvPr/>
        </p:nvPicPr>
        <p:blipFill>
          <a:blip r:embed="rId2"/>
          <a:stretch/>
        </p:blipFill>
        <p:spPr>
          <a:xfrm>
            <a:off x="9237600" y="4753080"/>
            <a:ext cx="3005280" cy="2854080"/>
          </a:xfrm>
          <a:prstGeom prst="rect">
            <a:avLst/>
          </a:prstGeom>
          <a:ln w="0">
            <a:noFill/>
          </a:ln>
        </p:spPr>
      </p:pic>
      <p:pic>
        <p:nvPicPr>
          <p:cNvPr id="141" name="pasted-image.tif" descr=""/>
          <p:cNvPicPr/>
          <p:nvPr/>
        </p:nvPicPr>
        <p:blipFill>
          <a:blip r:embed="rId3"/>
          <a:stretch/>
        </p:blipFill>
        <p:spPr>
          <a:xfrm>
            <a:off x="1022400" y="2755800"/>
            <a:ext cx="7708680" cy="619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589200" y="9182160"/>
            <a:ext cx="2762280" cy="393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elvetica Light"/>
              </a:rPr>
              <a:t>Le Science Nr. 50, 1972 </a:t>
            </a:r>
            <a:endParaRPr b="0" lang="en-US" sz="19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43" name=""/>
          <p:cNvSpPr/>
          <p:nvPr/>
        </p:nvSpPr>
        <p:spPr>
          <a:xfrm>
            <a:off x="9933120" y="7713720"/>
            <a:ext cx="1630080" cy="685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elvetica Light"/>
              </a:rPr>
              <a:t>Alan Sorrenti</a:t>
            </a:r>
            <a:endParaRPr b="0" lang="en-US" sz="1900" spc="-1" strike="noStrike">
              <a:solidFill>
                <a:srgbClr val="ffffff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elvetica Light"/>
              </a:rPr>
              <a:t>1950 - vivente</a:t>
            </a:r>
            <a:endParaRPr b="0" lang="en-US" sz="19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8480" y="329760"/>
            <a:ext cx="11098440" cy="21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Helvetica Light"/>
              </a:rPr>
              <a:t>E l’idrogeno e l’elio da dove arrivano?</a:t>
            </a:r>
            <a:endParaRPr b="0" lang="en-US" sz="51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311560"/>
            <a:ext cx="11098440" cy="18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57200" indent="-457200" algn="just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La formazione di H ed He avviene nei primi istanti di “vita” dell’universo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146" name="pasted-image-enhanced.jpeg" descr=""/>
          <p:cNvPicPr/>
          <p:nvPr/>
        </p:nvPicPr>
        <p:blipFill>
          <a:blip r:embed="rId2"/>
          <a:srcRect l="0" t="3739" r="0" b="0"/>
          <a:stretch/>
        </p:blipFill>
        <p:spPr>
          <a:xfrm>
            <a:off x="506520" y="4173480"/>
            <a:ext cx="114346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560" y="393480"/>
            <a:ext cx="11098080" cy="21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Helvetica Light"/>
              </a:rPr>
              <a:t>Dato di ingresso: il Sole splende…</a:t>
            </a:r>
            <a:endParaRPr b="0" lang="en-US" sz="56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52560" y="2590920"/>
            <a:ext cx="1109808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57200" indent="-457200" algn="just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La quantità di energia che riceviamo dal Sole è nota come </a:t>
            </a: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Costante Solare (CS)</a:t>
            </a: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: 1,37 kW/m</a:t>
            </a:r>
            <a:r>
              <a:rPr b="0" lang="en-US" sz="3600" spc="-1" strike="noStrike" baseline="32000">
                <a:solidFill>
                  <a:srgbClr val="ffffff"/>
                </a:solidFill>
                <a:latin typeface="Helvetica Light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Helvetica Light"/>
            </a:endParaRPr>
          </a:p>
          <a:p>
            <a:pPr marL="457200" indent="-457200" algn="just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Il Sole dista dalla Terra una </a:t>
            </a: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Unità Astronomica (UA)</a:t>
            </a: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: 150 milioni di km (1,5 x 10</a:t>
            </a:r>
            <a:r>
              <a:rPr b="0" lang="en-US" sz="3600" spc="-1" strike="noStrike" baseline="32000">
                <a:solidFill>
                  <a:srgbClr val="ffffff"/>
                </a:solidFill>
                <a:latin typeface="Helvetica Light"/>
              </a:rPr>
              <a:t>11</a:t>
            </a: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 m).</a:t>
            </a:r>
            <a:endParaRPr b="0" lang="en-US" sz="3600" spc="-1" strike="noStrike">
              <a:solidFill>
                <a:srgbClr val="ffffff"/>
              </a:solidFill>
              <a:latin typeface="Helvetica Light"/>
            </a:endParaRPr>
          </a:p>
          <a:p>
            <a:pPr marL="457200" indent="-457200" algn="just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Quindi la </a:t>
            </a: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Luminosità (L)</a:t>
            </a: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 del Sole risulta: L = 4πR</a:t>
            </a:r>
            <a:r>
              <a:rPr b="0" lang="en-US" sz="3600" spc="-1" strike="noStrike" baseline="32000">
                <a:solidFill>
                  <a:srgbClr val="ffffff"/>
                </a:solidFill>
                <a:latin typeface="Helvetica Light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 ~ 4 x 10</a:t>
            </a:r>
            <a:r>
              <a:rPr b="0" lang="en-US" sz="3600" spc="-1" strike="noStrike" baseline="32000">
                <a:solidFill>
                  <a:srgbClr val="ffffff"/>
                </a:solidFill>
                <a:latin typeface="Helvetica Light"/>
              </a:rPr>
              <a:t>26</a:t>
            </a: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 W, spesso indicata come </a:t>
            </a:r>
            <a:r>
              <a:rPr b="1" lang="en-US" sz="3600" spc="-1" strike="noStrike">
                <a:solidFill>
                  <a:srgbClr val="ffffff"/>
                </a:solidFill>
                <a:latin typeface="Helvetica Light"/>
              </a:rPr>
              <a:t>L</a:t>
            </a:r>
            <a:r>
              <a:rPr b="1" lang="en-US" sz="3600" spc="-1" strike="noStrike" baseline="-6000">
                <a:solidFill>
                  <a:srgbClr val="ffffff"/>
                </a:solidFill>
                <a:latin typeface="Helvetica Light"/>
              </a:rPr>
              <a:t>⊙</a:t>
            </a: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83" name="pasted-image.tif" descr=""/>
          <p:cNvPicPr/>
          <p:nvPr/>
        </p:nvPicPr>
        <p:blipFill>
          <a:blip r:embed="rId2"/>
          <a:stretch/>
        </p:blipFill>
        <p:spPr>
          <a:xfrm>
            <a:off x="10747440" y="7886880"/>
            <a:ext cx="1305000" cy="1284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7920" y="5928840"/>
            <a:ext cx="10464840" cy="16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Helvetica Light"/>
                <a:hlinkClick r:id="rId2"/>
              </a:rPr>
              <a:t>http://mitescienza.blogspot.it</a:t>
            </a:r>
            <a:endParaRPr b="0" lang="en-US" sz="6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8003880"/>
            <a:ext cx="1046304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Light"/>
              </a:rPr>
              <a:t>Grazie per l'attenzione!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149" name="Life Cycle of a Star.mp4" descr=""/>
          <p:cNvPicPr/>
          <p:nvPr/>
        </p:nvPicPr>
        <p:blipFill>
          <a:blip r:embed="rId3"/>
          <a:stretch/>
        </p:blipFill>
        <p:spPr>
          <a:xfrm>
            <a:off x="3378240" y="135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52560" y="406080"/>
            <a:ext cx="11098080" cy="21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Da quanto tempo brilla?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52560" y="2590920"/>
            <a:ext cx="1109808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57200" indent="-457200" algn="just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Light"/>
              </a:rPr>
              <a:t>Le rocce più antiche datate sulla Terra risultano essere vecchie poco meno di 4 miliardi di anni!</a:t>
            </a:r>
            <a:endParaRPr b="0" lang="en-US" sz="3400" spc="-1" strike="noStrike">
              <a:solidFill>
                <a:srgbClr val="ffffff"/>
              </a:solidFill>
              <a:latin typeface="Helvetica Light"/>
            </a:endParaRPr>
          </a:p>
          <a:p>
            <a:pPr marL="457200" indent="-457200" algn="just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Light"/>
              </a:rPr>
              <a:t>In effetti, noi oggi sappiamo che la nostra stella ha circa 5 miliardi d’anni, ed i pianeti del sistema solare un’età simile.</a:t>
            </a:r>
            <a:endParaRPr b="0" lang="en-US" sz="3400" spc="-1" strike="noStrike">
              <a:solidFill>
                <a:srgbClr val="ffffff"/>
              </a:solidFill>
              <a:latin typeface="Helvetica Light"/>
            </a:endParaRPr>
          </a:p>
          <a:p>
            <a:pPr marL="457200" indent="-457200" algn="just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Light"/>
              </a:rPr>
              <a:t>Grossomodo, da informazioni paleontologiche (ed astrofisiche), sappiamo che il Sole ha brillato con luminosità “simile” per tutto questo tempo.</a:t>
            </a:r>
            <a:endParaRPr b="0" lang="en-US" sz="34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86" name="pasted-image.tif" descr=""/>
          <p:cNvPicPr/>
          <p:nvPr/>
        </p:nvPicPr>
        <p:blipFill>
          <a:blip r:embed="rId2"/>
          <a:stretch/>
        </p:blipFill>
        <p:spPr>
          <a:xfrm>
            <a:off x="10625040" y="7931160"/>
            <a:ext cx="1552680" cy="1687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560" y="406080"/>
            <a:ext cx="11098080" cy="21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Helvetica Light"/>
              </a:rPr>
              <a:t>Come produco tutta questa energia?</a:t>
            </a:r>
            <a:endParaRPr b="0" lang="en-US" sz="52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39960" y="2398320"/>
            <a:ext cx="1109808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57200" indent="-457200" algn="just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La materia in un campo gravitazionale può convertire energia potenziale in energia cinetica. È così che si formano le stelle…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457200" indent="-457200" algn="just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L’energia potenziale gravitazione a disposizione del Sole (M</a:t>
            </a:r>
            <a:r>
              <a:rPr b="0" lang="en-US" sz="3800" spc="-1" strike="noStrike" baseline="-6000">
                <a:solidFill>
                  <a:srgbClr val="ffffff"/>
                </a:solidFill>
                <a:latin typeface="Helvetica Light"/>
              </a:rPr>
              <a:t>⊙</a:t>
            </a: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~2 x 10</a:t>
            </a:r>
            <a:r>
              <a:rPr b="0" lang="en-US" sz="3800" spc="-1" strike="noStrike" baseline="32000">
                <a:solidFill>
                  <a:srgbClr val="ffffff"/>
                </a:solidFill>
                <a:latin typeface="Helvetica Light"/>
              </a:rPr>
              <a:t>30</a:t>
            </a: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 kg) è: E</a:t>
            </a:r>
            <a:r>
              <a:rPr b="0" lang="en-US" sz="3800" spc="-1" strike="noStrike" baseline="-6000">
                <a:solidFill>
                  <a:srgbClr val="ffffff"/>
                </a:solidFill>
                <a:latin typeface="Helvetica Light"/>
              </a:rPr>
              <a:t>pot =</a:t>
            </a: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 M</a:t>
            </a:r>
            <a:r>
              <a:rPr b="0" lang="en-US" sz="3800" spc="-1" strike="noStrike" baseline="32000">
                <a:solidFill>
                  <a:srgbClr val="ffffff"/>
                </a:solidFill>
                <a:latin typeface="Helvetica Light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 G / R ~ 4 x 10</a:t>
            </a:r>
            <a:r>
              <a:rPr b="0" lang="en-US" sz="3800" spc="-1" strike="noStrike" baseline="32000">
                <a:solidFill>
                  <a:srgbClr val="ffffff"/>
                </a:solidFill>
                <a:latin typeface="Helvetica Light"/>
              </a:rPr>
              <a:t>41</a:t>
            </a: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 J. 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89" name="pasted-image.tif" descr=""/>
          <p:cNvPicPr/>
          <p:nvPr/>
        </p:nvPicPr>
        <p:blipFill>
          <a:blip r:embed="rId2"/>
          <a:stretch/>
        </p:blipFill>
        <p:spPr>
          <a:xfrm>
            <a:off x="7926480" y="6681960"/>
            <a:ext cx="2816280" cy="2815920"/>
          </a:xfrm>
          <a:prstGeom prst="rect">
            <a:avLst/>
          </a:prstGeom>
          <a:ln w="0">
            <a:noFill/>
          </a:ln>
        </p:spPr>
      </p:pic>
      <p:pic>
        <p:nvPicPr>
          <p:cNvPr id="90" name="pasted-image.tif" descr=""/>
          <p:cNvPicPr/>
          <p:nvPr/>
        </p:nvPicPr>
        <p:blipFill>
          <a:blip r:embed="rId3"/>
          <a:stretch/>
        </p:blipFill>
        <p:spPr>
          <a:xfrm>
            <a:off x="3124080" y="7386480"/>
            <a:ext cx="1568520" cy="1901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062680" y="7885080"/>
            <a:ext cx="1657080" cy="685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elvetica Light"/>
              </a:rPr>
              <a:t>Isaac Newton</a:t>
            </a:r>
            <a:endParaRPr b="0" lang="en-US" sz="1900" spc="-1" strike="noStrike">
              <a:solidFill>
                <a:srgbClr val="ffffff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elvetica Light"/>
              </a:rPr>
              <a:t>1642 - 1727 </a:t>
            </a:r>
            <a:endParaRPr b="0" lang="en-US" sz="19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26640" y="2590920"/>
            <a:ext cx="1109844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5800" indent="-415800" algn="just">
              <a:spcBef>
                <a:spcPts val="38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30280"/>
                <a:tab algn="l" pos="1060560"/>
                <a:tab algn="l" pos="1590840"/>
                <a:tab algn="l" pos="2120760"/>
                <a:tab algn="l" pos="2651040"/>
                <a:tab algn="l" pos="3181320"/>
                <a:tab algn="l" pos="3711600"/>
                <a:tab algn="l" pos="4241880"/>
                <a:tab algn="l" pos="4772160"/>
                <a:tab algn="l" pos="5302080"/>
                <a:tab algn="l" pos="5832360"/>
                <a:tab algn="l" pos="6362640"/>
                <a:tab algn="l" pos="6892920"/>
                <a:tab algn="l" pos="7423200"/>
                <a:tab algn="l" pos="7953480"/>
                <a:tab algn="l" pos="8483760"/>
                <a:tab algn="l" pos="9013680"/>
                <a:tab algn="l" pos="9543960"/>
                <a:tab algn="l" pos="10074240"/>
                <a:tab algn="l" pos="1060452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Light"/>
              </a:rPr>
              <a:t>Si tratta di una rimarchevole quantità di energia. Ma è abbastanza per spiegare la luminosità del Sole?</a:t>
            </a:r>
            <a:endParaRPr b="0" lang="en-US" sz="3400" spc="-1" strike="noStrike">
              <a:solidFill>
                <a:srgbClr val="ffffff"/>
              </a:solidFill>
              <a:latin typeface="Helvetica Light"/>
            </a:endParaRPr>
          </a:p>
          <a:p>
            <a:pPr marL="415800" indent="-415800" algn="just">
              <a:spcBef>
                <a:spcPts val="38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30280"/>
                <a:tab algn="l" pos="1060560"/>
                <a:tab algn="l" pos="1590840"/>
                <a:tab algn="l" pos="2120760"/>
                <a:tab algn="l" pos="2651040"/>
                <a:tab algn="l" pos="3181320"/>
                <a:tab algn="l" pos="3711600"/>
                <a:tab algn="l" pos="4241880"/>
                <a:tab algn="l" pos="4772160"/>
                <a:tab algn="l" pos="5302080"/>
                <a:tab algn="l" pos="5832360"/>
                <a:tab algn="l" pos="6362640"/>
                <a:tab algn="l" pos="6892920"/>
                <a:tab algn="l" pos="7423200"/>
                <a:tab algn="l" pos="7953480"/>
                <a:tab algn="l" pos="8483760"/>
                <a:tab algn="l" pos="9013680"/>
                <a:tab algn="l" pos="9543960"/>
                <a:tab algn="l" pos="10074240"/>
                <a:tab algn="l" pos="1060452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Light"/>
              </a:rPr>
              <a:t>Per avere un’idea del tempo in cui il Sole potrebbe avere brillato a spese della sue energia potenziale gravitazionale possiamo semplicemente dividere l’energia per la luminosità: E</a:t>
            </a:r>
            <a:r>
              <a:rPr b="0" lang="en-US" sz="3400" spc="-1" strike="noStrike" baseline="-6000">
                <a:solidFill>
                  <a:srgbClr val="ffffff"/>
                </a:solidFill>
                <a:latin typeface="Helvetica Light"/>
              </a:rPr>
              <a:t>pot</a:t>
            </a:r>
            <a:r>
              <a:rPr b="0" lang="en-US" sz="3400" spc="-1" strike="noStrike">
                <a:solidFill>
                  <a:srgbClr val="ffffff"/>
                </a:solidFill>
                <a:latin typeface="Helvetica Light"/>
              </a:rPr>
              <a:t> / L</a:t>
            </a:r>
            <a:r>
              <a:rPr b="0" lang="en-US" sz="3400" spc="-1" strike="noStrike" baseline="-6000">
                <a:solidFill>
                  <a:srgbClr val="ffffff"/>
                </a:solidFill>
                <a:latin typeface="Helvetica Light"/>
              </a:rPr>
              <a:t>⊙</a:t>
            </a:r>
            <a:r>
              <a:rPr b="0" lang="en-US" sz="3400" spc="-1" strike="noStrike">
                <a:solidFill>
                  <a:srgbClr val="ffffff"/>
                </a:solidFill>
                <a:latin typeface="Helvetica Light"/>
              </a:rPr>
              <a:t> ~ 4 x 10</a:t>
            </a:r>
            <a:r>
              <a:rPr b="0" lang="en-US" sz="3400" spc="-1" strike="noStrike" baseline="32000">
                <a:solidFill>
                  <a:srgbClr val="ffffff"/>
                </a:solidFill>
                <a:latin typeface="Helvetica Light"/>
              </a:rPr>
              <a:t>41</a:t>
            </a:r>
            <a:r>
              <a:rPr b="0" lang="en-US" sz="3400" spc="-1" strike="noStrike">
                <a:solidFill>
                  <a:srgbClr val="ffffff"/>
                </a:solidFill>
                <a:latin typeface="Helvetica Light"/>
              </a:rPr>
              <a:t> J / 4 x 10</a:t>
            </a:r>
            <a:r>
              <a:rPr b="0" lang="en-US" sz="3400" spc="-1" strike="noStrike" baseline="32000">
                <a:solidFill>
                  <a:srgbClr val="ffffff"/>
                </a:solidFill>
                <a:latin typeface="Helvetica Light"/>
              </a:rPr>
              <a:t>26</a:t>
            </a:r>
            <a:r>
              <a:rPr b="0" lang="en-US" sz="3400" spc="-1" strike="noStrike">
                <a:solidFill>
                  <a:srgbClr val="ffffff"/>
                </a:solidFill>
                <a:latin typeface="Helvetica Light"/>
              </a:rPr>
              <a:t> J s</a:t>
            </a:r>
            <a:r>
              <a:rPr b="0" lang="en-US" sz="3400" spc="-1" strike="noStrike" baseline="32000">
                <a:solidFill>
                  <a:srgbClr val="ffffff"/>
                </a:solidFill>
                <a:latin typeface="Helvetica Light"/>
              </a:rPr>
              <a:t>-1</a:t>
            </a:r>
            <a:r>
              <a:rPr b="0" lang="en-US" sz="3400" spc="-1" strike="noStrike">
                <a:solidFill>
                  <a:srgbClr val="ffffff"/>
                </a:solidFill>
                <a:latin typeface="Helvetica Light"/>
              </a:rPr>
              <a:t> ~ 30 milioni di anni.</a:t>
            </a:r>
            <a:endParaRPr b="0" lang="en-US" sz="3400" spc="-1" strike="noStrike">
              <a:solidFill>
                <a:srgbClr val="ffffff"/>
              </a:solidFill>
              <a:latin typeface="Helvetica Light"/>
            </a:endParaRPr>
          </a:p>
          <a:p>
            <a:pPr marL="415800" indent="-415800" algn="just">
              <a:spcBef>
                <a:spcPts val="38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30280"/>
                <a:tab algn="l" pos="1060560"/>
                <a:tab algn="l" pos="1590840"/>
                <a:tab algn="l" pos="2120760"/>
                <a:tab algn="l" pos="2651040"/>
                <a:tab algn="l" pos="3181320"/>
                <a:tab algn="l" pos="3711600"/>
                <a:tab algn="l" pos="4241880"/>
                <a:tab algn="l" pos="4772160"/>
                <a:tab algn="l" pos="5302080"/>
                <a:tab algn="l" pos="5832360"/>
                <a:tab algn="l" pos="6362640"/>
                <a:tab algn="l" pos="6892920"/>
                <a:tab algn="l" pos="7423200"/>
                <a:tab algn="l" pos="7953480"/>
                <a:tab algn="l" pos="8483760"/>
                <a:tab algn="l" pos="9013680"/>
                <a:tab algn="l" pos="9543960"/>
                <a:tab algn="l" pos="10074240"/>
                <a:tab algn="l" pos="1060452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Light"/>
              </a:rPr>
              <a:t>Noi ora sappiamo che è troppo poco. Ma fino alla fiume dell’800 l’argomento era ampiamente dibattuto.</a:t>
            </a:r>
            <a:endParaRPr b="0" lang="en-US" sz="34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93" name="pasted-image.tif" descr=""/>
          <p:cNvPicPr/>
          <p:nvPr/>
        </p:nvPicPr>
        <p:blipFill>
          <a:blip r:embed="rId2"/>
          <a:stretch/>
        </p:blipFill>
        <p:spPr>
          <a:xfrm>
            <a:off x="1289160" y="266760"/>
            <a:ext cx="1387440" cy="1973160"/>
          </a:xfrm>
          <a:prstGeom prst="rect">
            <a:avLst/>
          </a:prstGeom>
          <a:ln w="0">
            <a:noFill/>
          </a:ln>
        </p:spPr>
      </p:pic>
      <p:pic>
        <p:nvPicPr>
          <p:cNvPr id="94" name="pasted-image.png" descr=""/>
          <p:cNvPicPr/>
          <p:nvPr/>
        </p:nvPicPr>
        <p:blipFill>
          <a:blip r:embed="rId3"/>
          <a:stretch/>
        </p:blipFill>
        <p:spPr>
          <a:xfrm>
            <a:off x="8183520" y="343080"/>
            <a:ext cx="1519200" cy="1973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988560" y="963720"/>
            <a:ext cx="2652840" cy="685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elvetica Light"/>
              </a:rPr>
              <a:t>Herman Von Helmholtz</a:t>
            </a:r>
            <a:endParaRPr b="0" lang="en-US" sz="1900" spc="-1" strike="noStrike">
              <a:solidFill>
                <a:srgbClr val="ffffff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elvetica Light"/>
              </a:rPr>
              <a:t>1821 - 1894 </a:t>
            </a:r>
            <a:endParaRPr b="0" lang="en-US" sz="19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96" name=""/>
          <p:cNvSpPr/>
          <p:nvPr/>
        </p:nvSpPr>
        <p:spPr>
          <a:xfrm>
            <a:off x="3173400" y="938160"/>
            <a:ext cx="3772080" cy="685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elvetica Light"/>
              </a:rPr>
              <a:t>William Thomson, I Barone Kelvin</a:t>
            </a:r>
            <a:endParaRPr b="0" lang="en-US" sz="1900" spc="-1" strike="noStrike">
              <a:solidFill>
                <a:srgbClr val="ffffff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elvetica Light"/>
              </a:rPr>
              <a:t>1824 - 1907 </a:t>
            </a:r>
            <a:endParaRPr b="0" lang="en-US" sz="19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52560" y="367920"/>
            <a:ext cx="11098080" cy="15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Light"/>
              </a:rPr>
              <a:t>La relatività ci aiuta…</a:t>
            </a:r>
            <a:endParaRPr b="0" lang="en-US" sz="72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5480" y="1968480"/>
            <a:ext cx="1109808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93560" indent="-493560" algn="just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Light"/>
              </a:rPr>
              <a:t>A causa dell’equivalenza massa/energia possiamo calcolare l’energia equivalente del Sole: E = M</a:t>
            </a:r>
            <a:r>
              <a:rPr b="0" lang="en-US" sz="3400" spc="-1" strike="noStrike" baseline="-6000">
                <a:solidFill>
                  <a:srgbClr val="ffffff"/>
                </a:solidFill>
                <a:latin typeface="Helvetica Light"/>
              </a:rPr>
              <a:t>⊙</a:t>
            </a:r>
            <a:r>
              <a:rPr b="0" lang="en-US" sz="3400" spc="-1" strike="noStrike">
                <a:solidFill>
                  <a:srgbClr val="ffffff"/>
                </a:solidFill>
                <a:latin typeface="Helvetica Light"/>
              </a:rPr>
              <a:t>c</a:t>
            </a:r>
            <a:r>
              <a:rPr b="0" lang="en-US" sz="3400" spc="-1" strike="noStrike" baseline="32000">
                <a:solidFill>
                  <a:srgbClr val="ffffff"/>
                </a:solidFill>
                <a:latin typeface="Helvetica Light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Helvetica Light"/>
              </a:rPr>
              <a:t> ~ 1.8 x 10</a:t>
            </a:r>
            <a:r>
              <a:rPr b="0" lang="en-US" sz="3400" spc="-1" strike="noStrike" baseline="32000">
                <a:solidFill>
                  <a:srgbClr val="ffffff"/>
                </a:solidFill>
                <a:latin typeface="Helvetica Light"/>
              </a:rPr>
              <a:t>47</a:t>
            </a:r>
            <a:r>
              <a:rPr b="0" lang="en-US" sz="3400" spc="-1" strike="noStrike">
                <a:solidFill>
                  <a:srgbClr val="ffffff"/>
                </a:solidFill>
                <a:latin typeface="Helvetica Light"/>
              </a:rPr>
              <a:t> J.</a:t>
            </a:r>
            <a:endParaRPr b="0" lang="en-US" sz="3400" spc="-1" strike="noStrike">
              <a:solidFill>
                <a:srgbClr val="ffffff"/>
              </a:solidFill>
              <a:latin typeface="Helvetica Light"/>
            </a:endParaRPr>
          </a:p>
          <a:p>
            <a:pPr marL="493560" indent="-493560" algn="just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Light"/>
              </a:rPr>
              <a:t>Un milione di volte di più del contenuto in energia gravitazionale. Con questo serbatoio a disposizione il Sole potrebbe brillare per decine di miliardi di anni…</a:t>
            </a:r>
            <a:endParaRPr b="0" lang="en-US" sz="3400" spc="-1" strike="noStrike">
              <a:solidFill>
                <a:srgbClr val="ffffff"/>
              </a:solidFill>
              <a:latin typeface="Helvetica Light"/>
            </a:endParaRPr>
          </a:p>
          <a:p>
            <a:pPr marL="493560" indent="-493560" algn="just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Light"/>
              </a:rPr>
              <a:t>Ma come può essere possibile utilizzare questa energia?</a:t>
            </a:r>
            <a:endParaRPr b="0" lang="en-US" sz="34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99" name="pasted-image.tif" descr=""/>
          <p:cNvPicPr/>
          <p:nvPr/>
        </p:nvPicPr>
        <p:blipFill>
          <a:blip r:embed="rId2"/>
          <a:stretch/>
        </p:blipFill>
        <p:spPr>
          <a:xfrm>
            <a:off x="8854920" y="7442280"/>
            <a:ext cx="2854440" cy="2139840"/>
          </a:xfrm>
          <a:prstGeom prst="rect">
            <a:avLst/>
          </a:prstGeom>
          <a:ln w="0">
            <a:noFill/>
          </a:ln>
        </p:spPr>
      </p:pic>
      <p:pic>
        <p:nvPicPr>
          <p:cNvPr id="100" name="pasted-image.png" descr=""/>
          <p:cNvPicPr/>
          <p:nvPr/>
        </p:nvPicPr>
        <p:blipFill>
          <a:blip r:embed="rId3"/>
          <a:stretch/>
        </p:blipFill>
        <p:spPr>
          <a:xfrm>
            <a:off x="4048200" y="7499520"/>
            <a:ext cx="1514520" cy="2139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800680" y="8101080"/>
            <a:ext cx="1741680" cy="685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elvetica Light"/>
              </a:rPr>
              <a:t>Albert Einstein</a:t>
            </a:r>
            <a:endParaRPr b="0" lang="en-US" sz="1900" spc="-1" strike="noStrike">
              <a:solidFill>
                <a:srgbClr val="ffffff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elvetica Light"/>
              </a:rPr>
              <a:t>1879 - 1955 </a:t>
            </a:r>
            <a:endParaRPr b="0" lang="en-US" sz="19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560" y="406080"/>
            <a:ext cx="11098080" cy="21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Helvetica Light"/>
              </a:rPr>
              <a:t>La risposta è la fusione nucleare!</a:t>
            </a:r>
            <a:endParaRPr b="0" lang="en-US" sz="5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52200" y="2565360"/>
            <a:ext cx="470052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23720" indent="-423720" algn="just">
              <a:spcBef>
                <a:spcPts val="3900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elvetica Light"/>
              </a:rPr>
              <a:t>La luminosità di una stella è alimentata dalla fusione nucleare che che ha luogo nel centro (non solo…) delle stesse. </a:t>
            </a:r>
            <a:endParaRPr b="0" lang="en-US" sz="35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104" name="pasted-image.tif" descr=""/>
          <p:cNvPicPr/>
          <p:nvPr/>
        </p:nvPicPr>
        <p:blipFill>
          <a:blip r:embed="rId2"/>
          <a:stretch/>
        </p:blipFill>
        <p:spPr>
          <a:xfrm>
            <a:off x="5899320" y="2684520"/>
            <a:ext cx="6769080" cy="5079960"/>
          </a:xfrm>
          <a:prstGeom prst="rect">
            <a:avLst/>
          </a:prstGeom>
          <a:ln w="0">
            <a:noFill/>
          </a:ln>
        </p:spPr>
      </p:pic>
      <p:pic>
        <p:nvPicPr>
          <p:cNvPr id="105" name="pasted-image.png" descr=""/>
          <p:cNvPicPr/>
          <p:nvPr/>
        </p:nvPicPr>
        <p:blipFill>
          <a:blip r:embed="rId3"/>
          <a:stretch/>
        </p:blipFill>
        <p:spPr>
          <a:xfrm>
            <a:off x="469800" y="7021440"/>
            <a:ext cx="1630440" cy="2344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10000" y="7974000"/>
            <a:ext cx="1469880" cy="685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elvetica Light"/>
              </a:rPr>
              <a:t>Hans Bethe</a:t>
            </a:r>
            <a:endParaRPr b="0" lang="en-US" sz="1900" spc="-1" strike="noStrike">
              <a:solidFill>
                <a:srgbClr val="ffffff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elvetica Light"/>
              </a:rPr>
              <a:t>1906 - 2005 </a:t>
            </a:r>
            <a:endParaRPr b="0" lang="en-US" sz="19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35240" y="4000680"/>
            <a:ext cx="8945640" cy="54943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560" y="406080"/>
            <a:ext cx="11098080" cy="21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7100" spc="-1" strike="noStrike">
                <a:solidFill>
                  <a:srgbClr val="ffffff"/>
                </a:solidFill>
                <a:latin typeface="Helvetica Light"/>
              </a:rPr>
              <a:t>La fusione protone-protone</a:t>
            </a:r>
            <a:endParaRPr b="0" lang="en-US" sz="71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03320" y="2222280"/>
            <a:ext cx="110980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57200" indent="-457200">
              <a:spcBef>
                <a:spcPts val="4201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A temperature sopra i 4 milioni di gradi si ha la fusione dell’idrogeno.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110" name="pasted-image.pdf" descr=""/>
          <p:cNvPicPr/>
          <p:nvPr/>
        </p:nvPicPr>
        <p:blipFill>
          <a:blip r:embed="rId2"/>
          <a:stretch/>
        </p:blipFill>
        <p:spPr>
          <a:xfrm>
            <a:off x="2816280" y="4098960"/>
            <a:ext cx="7635960" cy="5203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010280" y="2793960"/>
            <a:ext cx="5715000" cy="67136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0" dir="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560" y="406080"/>
            <a:ext cx="11098080" cy="21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Helvetica Light"/>
              </a:rPr>
              <a:t>Se il plasma non è composto da solo idrogeno è attivo il ciclo CNO</a:t>
            </a:r>
            <a:endParaRPr b="0" lang="en-US" sz="56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7600" y="3390840"/>
            <a:ext cx="60958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42800" indent="-442800" algn="just">
              <a:spcBef>
                <a:spcPts val="4000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A temperature sopra i 17 milioni di gradi gli elementi carbonio, azoto ed ossigeno fungono da catalizzatori.</a:t>
            </a:r>
            <a:endParaRPr b="0" lang="en-US" sz="3600" spc="-1" strike="noStrike">
              <a:solidFill>
                <a:srgbClr val="ffffff"/>
              </a:solidFill>
              <a:latin typeface="Helvetica Light"/>
            </a:endParaRPr>
          </a:p>
          <a:p>
            <a:pPr marL="442800" indent="-442800" algn="just">
              <a:spcBef>
                <a:spcPts val="4000"/>
              </a:spcBef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Light"/>
              </a:rPr>
              <a:t>Nel Sole entrambi i cicli sono attivi.</a:t>
            </a:r>
            <a:endParaRPr b="0" lang="en-US" sz="3600" spc="-1" strike="noStrike">
              <a:solidFill>
                <a:srgbClr val="ffffff"/>
              </a:solidFill>
              <a:latin typeface="Helvetica Light"/>
            </a:endParaRPr>
          </a:p>
        </p:txBody>
      </p:sp>
      <p:pic>
        <p:nvPicPr>
          <p:cNvPr id="114" name="pasted-image.pdf" descr=""/>
          <p:cNvPicPr/>
          <p:nvPr/>
        </p:nvPicPr>
        <p:blipFill>
          <a:blip r:embed="rId2"/>
          <a:stretch/>
        </p:blipFill>
        <p:spPr>
          <a:xfrm>
            <a:off x="7086600" y="3429000"/>
            <a:ext cx="5459400" cy="5459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